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8CB-FEBB-46C3-BBEC-A4320CA2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D57-CC17-410D-8FFB-19759F97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C480C-F6E4-4C30-9F6E-F4169EA2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7C0FE-4692-4777-8DA2-42498B7B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6500A-5D93-4E6F-BE66-E7DABCD2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AEEE1-705B-4676-BF92-36B2215E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042BD-FD83-41E2-9A45-857A227A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E5DFE-67BB-49DF-B8CE-864314C6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F0423-F548-40F3-BA36-5732910C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4FA30-182B-4558-B504-A64735DB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FCBC8-90A9-4720-8D70-89E7ACDF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070A3-C5CC-440E-84B9-E91BCAD8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617-8815-439B-9944-C4DBB5E4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5485D-4D8B-483B-96B3-78D25564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96C37-9BD5-46D0-9D1C-4A3AC8D7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B26DD-4CF8-4071-B26F-EA116005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954CC-9F32-49A1-82C2-3E129330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C8686-116B-467E-9974-5D167D6F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72D9E-8E04-418E-A6C5-2064E75F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79A07-3D2F-4060-8C4B-F7BB7D4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D6984-AACA-4159-A0C8-4B4D8E40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C2FF7-8AB6-4D79-BE91-2A7FF16C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69403-D3DC-4FD8-9CAE-F1F93D68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D1F-F6D9-4FC6-B4A2-99087311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84D83-676C-4822-AB89-682C371F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84B6D-3DD9-4028-BB97-E404AA8C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53777-8338-417A-9C9D-F97D6CB6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EF33A-7FF0-4377-9BC6-647FCB3B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79445-07A6-4D24-8F3D-7AC3E1A3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F5BBA-85C0-4B8E-9A4A-EA838E9D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BEC8E-1028-4BA0-AFFB-B36FCE52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4E19F-58AC-43E7-B825-C638CDC8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E1D21-82ED-40A0-BCB0-B51EC8D3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C197A-3BA8-4C2A-8CE4-A68EA3F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7FC5-C40C-46AA-8D92-C20AF0A0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338FC-1977-4237-B195-4AEEBB2E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F07F5-5B87-41E6-AE24-9F671DA3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7E29C-1A8F-4CA0-A0C9-E4CD45B0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F4687-05AA-4B59-A702-AC90A0B7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83333-3346-4CC2-81F2-6AF3BDA6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E9C15-B065-4432-8E0A-65A7D085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B8250-678B-47A8-AC74-20C52AB4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AF13D-6108-4D94-9284-F396FAF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02C73-7150-4434-96A6-9176672E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AF334-431C-4738-90D6-1E550F4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DA52-F49B-4DBB-B5F2-2DBEF62E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A10C3-AE92-4408-AEAA-E4EE00E4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E3079-D9E0-46A9-AFF7-CD0EBB06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0D312-4839-49AE-9D7F-596CBA51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40D92-AA2B-4DB7-934E-075D1A1A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011C0-83B1-4A56-BD2F-5F428C68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2A696-E403-4AC5-9890-86FB90E6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88827-F7E2-4F10-820A-4621800E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A6EB0-1258-4E68-9FEE-D7715114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0B1DA-2F19-4AE8-9A25-360F19A1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771E3-4F67-4F85-A0AD-1DE2EBC6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5DE9-F29C-4BEB-B606-B888183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21996-BE42-435E-B485-7C52CFC9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7F76E-E47E-4455-9DD3-7005CDF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9D6BF-3AC5-49CA-A44B-56B91C25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945CB-61DF-4159-847D-992B0805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42697-8358-4FF5-9BEB-751439FD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8BECA-6C45-4669-8D51-BFC3AD33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6037F-6E0E-41D5-B491-EF8A3F8E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CC620-0CEA-4D1C-94CB-15CFD208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188F2-2145-4E44-AFF3-71D90F98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78E05-E43A-4585-95EE-29ED298C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2CBD-69B8-450E-8E4D-5BC6A977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CD662-E709-4E66-90B4-4154D25D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7FC3C-DF91-4433-8988-49BDC597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FD74E-2D12-4A66-8634-7261D803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2442F-6C74-4A89-864C-83A390CD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D92E7-D74A-44A1-B62D-869D0E1D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06DDE-74D6-4113-BFB7-77F51FC6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14431-2A9E-43F5-8B24-FA2606C6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B2517-3C11-4278-8484-778B4AE5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4BD9B-5C0C-4379-A4B6-B9D13AC1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A4538-81BB-4603-83B3-9AAD3633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1A11-267B-4523-942F-35F2D5A1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629D2-7674-4FDC-AAE3-3C3321AC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926975-40CA-4BF4-9302-8BCB8CCC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5E166-79CF-4D27-8C1A-3B58CA28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644F6-827C-48BE-B07C-185182F9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A7EFE-81F8-4E04-84B2-2E79C065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4C5FB-3514-46E8-B5DF-1EE7E1B9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2861E-71C9-4D0B-A4ED-B27ADEE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E39D8-7ECF-4FEE-9F29-D2AC8FF2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8FA19-7BED-49F3-9599-77E345A0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827E4-26D4-424B-86AA-52EF5FC8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5EE3-2FE8-4EAE-A32A-E46166A9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174F3-697D-475D-9C84-FDB43C5A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CD050-7E36-4F47-BA96-23487D8E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435F9-52A8-4E21-9E46-C61BBEF1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AB1C4-60E8-43F3-9FA3-C23E720F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54DC1-D342-4D2B-9E80-97F3F9F4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175AE-9CC4-4267-B9B8-B0A10F90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61FE1-3A3F-4D08-86C8-92328307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DAB51-357D-49F1-9CA9-EEAED747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C6911-047C-41FA-A8CA-B89BA1AC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02548-15AB-485F-BD7A-8B3B7D3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8323-122E-4817-9B08-A97DA8D7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C8CBE-B5BB-41F8-8EDB-5BCC408F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E2BF3-E96D-4E85-8392-D4BE5D74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D8E5C-1A63-4BCD-9B3D-16F12E18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290BD-3BDD-4B24-9F8B-0D55AC35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73DA1-76C6-4C6A-8A2E-797A4871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73345-E649-4CD2-8A71-AE08B2B8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DB3EB-5CD9-4BAA-9155-4C50EA32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9AA33-5B01-47F3-9A75-A476C7CA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5D50C9-093F-4BF9-979E-6793C5B5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746563-465C-4D5E-A05B-84AD782C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050-F116-4719-A074-39688C8C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039C-BDAF-421C-9139-5965417D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D1EC7-1555-4ED9-B14C-D727D3EF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195A1-1379-46A5-9255-1ECDB7DA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3D50A-6AFF-4099-B10B-AD1F83F3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C9276-7F6F-41C2-BB32-ECF25993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6848F-AA46-4B42-95BF-DFB67B3C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C19313-02D1-4346-8CE4-FE0F7B86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2823B6-E965-4EA7-86A9-C362CF51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D5985-2E65-40E3-A78F-843765B8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A93EC-9DD3-4511-9DBF-8A6269D5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D246E-B329-431B-82BC-6D908F27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21B5-5468-4139-AE81-7D32F3F8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C9A309-ACD7-4AD1-A361-5B76B651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25934-432B-40CD-87DD-088FB6D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E3322-E9D4-4D74-AA65-2B855216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9DF31-C7DB-4C1E-ADE5-4DA71931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22757-5ACF-434B-890E-2D821BCA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8D6B32-D7D5-4098-9FA0-E55943EF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93B44C-548D-4E81-8242-EF2FA578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CC171-DCA9-4962-8763-AEA7674B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5D9F92-3459-4DCA-A8C5-32DEAFB6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67073-0951-4C08-9E94-56B3ADA7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860C-5804-4A33-BC69-5029AADF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37DD2-EBA2-4633-A239-4BC2406A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4D42E-6857-4E3B-995E-51144679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9EC865-9026-4419-874E-33A4B234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F5C19-0A59-45AA-968D-F556EB8B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53415-DA1D-4E85-804A-8642DC42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27D81-5BFC-492D-85CE-76F1D5D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8D9583-8900-4C13-943C-E8FE5D40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5B07A-14D6-4566-A56D-A12125E1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C86B4-893E-4FD7-B1B9-2FD52458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B31A90-0C71-422C-96E9-04317BC8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2C25-BBE4-4625-8BE8-1FD4FD8E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ACB05A-B8AC-48B4-9592-50CD15DA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BACD0A-209E-423C-9A5A-C20B7E51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FF7ED3-841C-4755-8B6D-9AA0DB5E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3B1F17-32EC-410F-A60B-EE4300A7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B7303-DE70-478D-91C2-7595921A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4BA05-9DDF-4E13-9C53-52575117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980C8E-B6E7-4EDC-B8DB-45EBEFE0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5421B-09F5-4295-AB74-94818471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027F4A-2FDA-42CC-B359-40B6000C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CEE8B-A88D-4635-B4B9-202628EE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1706-FFF6-46D0-9B76-1324971B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C91C9-C4E9-4E16-9D26-81CBC9AB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F56157-A61C-42C3-AAD5-883A329C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3B6AF3-B2FD-480E-96BC-A1B91515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5CFDB0-CF5E-4784-A107-4BAE52F8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1A1029-24DE-41BD-86C0-7ADA3EFE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A6D93C-4916-40C7-BC12-8AF4DBE8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9E1399-49BA-4617-8F62-E9FE5BDC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DAEC05-A294-41F4-847A-E702D7B7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1AA518-D59F-46FB-AD7D-A868B3D2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CA6FB7-A03D-45DC-905B-5FB5A90F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068C-EEC3-475B-B4A6-FD2156FF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9D87F-4927-466B-8D67-CC870B4F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F65395-915C-446A-AC03-EB8D1130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A7030-53A3-480C-896F-F148682D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8D871A-B23D-4158-8487-60585BC5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6D89B2-9769-432E-9623-2759D8DC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B299E7-5694-4FFE-B4AD-F1EFF2BD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1762F4-9523-4281-9DD3-3AEB41FB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DE85BF-86C1-4EE9-BA75-8DD1520C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C3FCFC-D5F5-4982-B923-1DC68071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B5FA5A-077E-429E-BAD7-2A9671CE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2C3E-BCAA-48ED-8483-949750A5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7266CB-0CE3-412C-B99F-FE57ADE7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4D6E07-32B1-4072-9CE2-3E24CA92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055753-8220-485D-A96C-6C2608BD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FAB3B9-8A91-41F0-B6B2-EE4BB4CA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B45A5D-94A7-4886-8F72-A1FF3590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3F967A-8BC9-41E0-A78F-C2680F15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1753BC-9B58-41DB-9810-A283B68B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A51BE5-0615-4213-A127-25E97E5C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B966DA-261B-4C01-8E28-F590A170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DFFCFA-4E08-4A92-A625-9CC4527A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CD30-86E7-4406-91D1-F8F4AD5A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576B38-10C9-455C-9354-4E1758A8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658549-AC89-42F2-A559-342E7CDB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B84733-B819-4515-BA0D-144CCC46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1B9176-A66E-4FC2-B176-982C3C5E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F9451F-8110-481D-ADEE-9622B06F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18D92A-0C5F-48BD-9C99-B41D3059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4D7242-FCD8-4D99-8C7E-E7B102F3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3F39-73ED-4564-A2F6-F32AC2A9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F119-AE82-45EA-A216-78B3C948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D8C-4EC1-48A2-BEF3-770BEA04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186F-CBD2-4430-9F3C-96DD738D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4DB98-AE77-4164-BCE6-9C34C003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6592-3102-4489-9E91-5DEE852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AE8E-110F-46BD-9C6F-5E2D7FEB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888F2-5D00-4A39-9952-17BACA84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729C-DD08-4DA0-8B5C-7E97FCB7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3761-2D34-4EA4-A86F-5AAB6492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B5212-73E7-4759-8525-60ED3731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9DD5B-9D81-432A-8EDE-9CAEF299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D091-3B54-49C2-823C-CD625B94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7B0-437B-40DE-BA19-A736A8C3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FF87E-DF14-4549-91C0-835F3755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0A72A-0A15-4844-BB47-FB4B4545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B97D4-A4E9-4FD5-B644-1346EAF3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A1E59-8A5B-48AD-810D-9619C927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0CCC-9D9C-4D0F-B88B-1DA0AB38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69A12-8C9E-4F6F-9BD6-93354026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D3210-0233-4989-8BBE-87C08305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670BD-D71F-4893-B38E-C894FBF8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B3B23-516F-47E4-AE8E-E5177981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A3F9B-F0D6-4E19-B75B-64C182BC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CE8-5CF5-49BE-8D44-FE1BE09E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6A8D2-7D88-4414-8DA4-3F673C86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2CB19-0F68-4957-974E-CE85A717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CA1F7-8240-465E-8AE3-9E906B89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82354-E568-48E4-9B26-DCD69E02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11C0E-C57E-4BEC-A6BF-13B1C6D8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6D9A-9AF7-422E-A6AC-5397CA5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7A669-2EAF-4999-B8A1-ACBB5CFA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BC080-4637-4BBA-B4AC-49C6BF8F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BFE65-7B03-4F30-B91A-7A831EAD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EDA3-D0B6-4996-B1BB-C53BDA3C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341-29D7-4AC1-943C-A55DE278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BB13B-C4CF-496C-A2B1-1A8AC913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087C6-0F37-472D-BA13-6BFAC053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F55B2-1D45-4496-B755-7A2E8A30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2E357-D806-4ECE-91B3-AC97DB76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0B531-0FC4-4E1B-8DF3-BA177B01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C8D4D-E642-4E4A-A39E-8AFB300C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328A8-3069-4F8C-96C4-CB8E4A01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655E9-152B-4BA6-B3DA-15A81678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D1FEC-28AF-4472-A98D-84E4587E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60F48-B161-4637-9A72-89C59111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C75-68A2-4BFC-900C-028210FC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2905A-90BF-4B9F-A9EC-15DA17B3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3B1EE-1E15-4342-A447-DFE57B14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807F2-CD83-4D6C-888C-5E2D559F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35687-143D-48FE-B2FB-C6F7364B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81D4A-84EF-4377-BB7B-CE8D28F4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A9E1A-D87E-4671-AEC1-885DDEEF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0AC7F-28B3-4181-8227-145EE830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D0092-ACA5-4DC3-8248-C878E029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B718-421F-45E0-82B7-9E31AA17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83394-CB85-4A27-AFF2-737CE846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424-A3A5-478A-8B11-7A0D0DE2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8FA7E-433A-431D-9910-B72CBF8F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5D0BE-2851-4E74-A841-A6A7BC8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836AA-7C44-460A-812F-6EA03F88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564C3-D510-4F17-A416-B29C1BA1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302A9-FF84-4A2E-97CB-BF350B0A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9F747-FC25-4A53-8883-4CAADF49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5ACE4-1696-43E7-99A6-91222FBB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D4E1D-90C9-4093-9AA8-B121196D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AB36D-2E58-47AB-B76A-0CFC0802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179F6-670B-4E9C-97C2-112AE319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327-FB32-4240-A8D7-B297ED6D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4F9C5-478A-4179-A437-A454FBA2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D8D1E-037D-4BE5-BEC4-2C99D677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22A18-20BD-4E5D-86D3-73CE98F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43E10-09E8-4BC6-8762-A7E5F8E8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F4F09-231B-4B6B-8B87-5F9E516A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8CB34-D646-4C5F-8A46-D2E9237A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B0ACF-BA76-4D15-B329-212FE9EE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E3085-6444-40F5-B782-CCE2C40D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D3752-C5B5-49A1-87E3-DDF209BE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F70AA-938F-4808-9452-1516C23C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97BF-653E-4080-963C-3480D8C63B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4BB5-5113-4B3A-A373-2C912F5AC5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36AB-B063-4BD1-9942-10129843D4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70DD-2F3B-4B48-BAA1-FAEF7FEE43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2EB2-7E84-435D-9AA1-F90CDF03BB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B171-324B-48C0-A0AF-8CADDD74F8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30FF-DB92-4FA8-B55B-4BF2296AB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9A1B-D692-4DF0-816F-5FDBADB733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DEE1-91E9-4A63-8590-DFBA2D68D4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6C08-1922-45AD-8A0B-942B9D7802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3FCD-AF63-4981-AE69-630423858B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7DB4-F574-4620-9A26-439A9DCF56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C5F2-C8FC-4991-B44F-4559D5BCA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6CF1-8D76-4D97-A0F7-AE448E8E45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07B0-80E2-40E8-A749-93B5DE408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C993-28A5-42CF-9798-3DC56CE6B0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642D-105A-4762-B136-C15986685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1EA1-07E9-4789-AAA4-8B7F75A7D8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08B1-AE18-4CBC-B50D-352D795C6F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79B3-5462-4D4A-86A3-2F520654CA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29C7-83E2-4F48-A83C-C1C6A312BA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E519-5FC2-4583-91FD-D868DD1B5E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2C12-BDE7-4D0F-8CB7-B3E6523B81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A597-BEA1-4A5C-9C91-81586A78FD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309A-71E1-477C-BB25-942682E501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BC68-C929-49EE-ACE5-181E3683AE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7475-EB80-40FC-A14B-BCF43C6E39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82AC-3478-4C5F-BE5B-1C65F89776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46A7-DF50-4364-B54E-0C7D4538A9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350F-5AA6-4F2F-BA71-978560AC04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3800-4ED2-4AF0-A2DF-89431C573E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3278-307C-43FC-A190-D21BB92D43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D01D-2820-4852-BCF2-7BA9B6E442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E9B2-E97E-4A88-94FD-64BB1F5879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4391-9E73-4F3C-B28C-F354EA398A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6DF4-0379-4DC5-A589-0F347D4592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8A22-B30E-4802-9E22-996CCE12F4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B9AF-D0B4-47B4-ADC8-5C16BD5030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AFE6-BE3F-47B6-882A-986E270A2F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24C9-A259-4BC1-8376-7B5599744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086B-1EFC-4922-8D95-6A6A67AD1D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2966-20E2-4A1B-9436-0C1715E78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98280" y="3160800"/>
            <a:ext cx="8947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08000" y="1003320"/>
            <a:ext cx="8724960" cy="187308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1257480" y="3471840"/>
            <a:ext cx="6876720" cy="22766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2987640" y="148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298764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364000" y="14842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5565600" y="19890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7913520" y="148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8028000" y="20034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2987640" y="41497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2987640" y="47973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5940360" y="4076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5940360" y="472428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81080" y="407880"/>
            <a:ext cx="8781840" cy="6305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276720" y="566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580000" y="6093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6148" descr=""/>
          <p:cNvPicPr/>
          <p:nvPr/>
        </p:nvPicPr>
        <p:blipFill>
          <a:blip r:embed="rId4"/>
          <a:stretch/>
        </p:blipFill>
        <p:spPr>
          <a:xfrm>
            <a:off x="5867280" y="4005360"/>
            <a:ext cx="23050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2338560" y="2548080"/>
            <a:ext cx="4466880" cy="1761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410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2340000" y="3241800"/>
            <a:ext cx="410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209520" y="957240"/>
            <a:ext cx="8724960" cy="5295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1187280" y="350028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5"/>
          <a:stretch/>
        </p:blipFill>
        <p:spPr>
          <a:xfrm>
            <a:off x="971640" y="5661000"/>
            <a:ext cx="453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214200" y="1100160"/>
            <a:ext cx="8715600" cy="46576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568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826920" y="5013360"/>
            <a:ext cx="7561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66680" y="138240"/>
            <a:ext cx="8810640" cy="65815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619280" y="4581360"/>
            <a:ext cx="410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547640" y="5084640"/>
            <a:ext cx="410544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1476360" y="5589720"/>
            <a:ext cx="41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1403280" y="6093000"/>
            <a:ext cx="684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318960" y="1566720"/>
            <a:ext cx="8506080" cy="37245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187280" y="335772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1116000" y="442260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37960" y="1143000"/>
            <a:ext cx="8668080" cy="45720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71640" y="350028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29530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755640" y="5056200"/>
            <a:ext cx="763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204840" y="1138320"/>
            <a:ext cx="8734320" cy="4581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388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71640" y="3457440"/>
            <a:ext cx="388764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900000" y="3976560"/>
            <a:ext cx="38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626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826920" y="5013360"/>
            <a:ext cx="626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4:0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